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32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37.png" ContentType="image/png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C9F9-BBEE-4779-9395-7495D09B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735-0256-4E72-A4B8-9EC5EF9A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F9E-1595-4E86-9644-71222D2A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3E5-1E40-42C0-B6E5-23F05321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5E3-BD34-4E25-A7C3-56F7EAEC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199-8FAD-453C-ADA7-6A5BDC1E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E1C-CF54-43A2-8CC1-B4C0B55B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4C0-58EB-4A1E-8B0E-CC805613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294-FD19-41B3-B7D6-35DBE03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C0D-BD02-475C-9B6E-BA3E8C6E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DCE-B235-4BCD-B8EE-C6858F32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622-8133-45E6-AD18-E1CAB03F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F82-94B1-42F0-8CFE-520FCCA4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ED4-D6FC-4059-9CDC-DAC7900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A102-81CE-4F48-8069-ECD81855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wetseal.com/catalog/thumbnail.jsp?categoryId=111&amp;subCategoryId=213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2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 BERKLEY"/>
              </a:rPr>
              <a:t>  </a:t>
            </a:r>
            <a:r>
              <a:rPr b="0" lang="en-US" sz="4800" spc="-1" strike="noStrike">
                <a:solidFill>
                  <a:srgbClr val="ff0066"/>
                </a:solidFill>
                <a:latin typeface="AR BERKLEY"/>
              </a:rPr>
              <a:t>El Cat</a:t>
            </a:r>
            <a:r>
              <a:rPr b="0" lang="en-US" sz="4800" spc="-1" strike="noStrike">
                <a:solidFill>
                  <a:srgbClr val="ff0066"/>
                </a:solidFill>
                <a:latin typeface="AR BERKLEY"/>
                <a:ea typeface="Arial"/>
              </a:rPr>
              <a:t>á</a:t>
            </a:r>
            <a:r>
              <a:rPr b="0" lang="en-US" sz="4800" spc="-1" strike="noStrike">
                <a:solidFill>
                  <a:srgbClr val="ff0066"/>
                </a:solidFill>
                <a:latin typeface="AR BERKLEY"/>
              </a:rPr>
              <a:t>logo de Ro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52280" y="251424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AR BERKLEY"/>
              </a:rPr>
              <a:t>Morgan Frye* y Kaitlin Carson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415800" cy="103680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912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9f9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7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20">
                      <a:solidFill>
                        <a:srgbClr val="f2f2f2"/>
                      </a:solidFill>
                    </a:lnL>
                    <a:lnR w="720">
                      <a:solidFill>
                        <a:srgbClr val="f2f2f2"/>
                      </a:solidFill>
                    </a:lnR>
                    <a:lnT w="720">
                      <a:solidFill>
                        <a:srgbClr val="f2f2f2"/>
                      </a:solidFill>
                    </a:lnT>
                    <a:lnB w="720">
                      <a:solidFill>
                        <a:srgbClr val="f2f2f2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pic>
        <p:nvPicPr>
          <p:cNvPr id="52" name="Picture 10" descr="spacer"/>
          <p:cNvPicPr/>
          <p:nvPr/>
        </p:nvPicPr>
        <p:blipFill>
          <a:blip r:embed="rId1"/>
          <a:stretch/>
        </p:blipFill>
        <p:spPr>
          <a:xfrm>
            <a:off x="122400" y="563400"/>
            <a:ext cx="9360" cy="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415800" cy="103680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912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1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38" descr="spacer"/>
          <p:cNvPicPr/>
          <p:nvPr/>
        </p:nvPicPr>
        <p:blipFill>
          <a:blip r:embed="rId2"/>
          <a:stretch/>
        </p:blipFill>
        <p:spPr>
          <a:xfrm>
            <a:off x="122400" y="56340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6" descr="spacer"/>
          <p:cNvPicPr/>
          <p:nvPr/>
        </p:nvPicPr>
        <p:blipFill>
          <a:blip r:embed="rId3"/>
          <a:stretch/>
        </p:blipFill>
        <p:spPr>
          <a:xfrm>
            <a:off x="122400" y="563400"/>
            <a:ext cx="9360" cy="3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000920" y="1295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343400" y="121932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0" y="533520"/>
            <a:ext cx="1936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362320" y="41148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2057400" y="1447920"/>
            <a:ext cx="2295360" cy="1990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ero_justarrived_tops">
            <a:hlinkClick r:id="rId2"/>
          </p:cNvPr>
          <p:cNvPicPr/>
          <p:nvPr/>
        </p:nvPicPr>
        <p:blipFill>
          <a:blip r:embed="rId3"/>
          <a:srcRect l="0" t="0" r="0" b="8136"/>
          <a:stretch/>
        </p:blipFill>
        <p:spPr>
          <a:xfrm>
            <a:off x="304920" y="1523880"/>
            <a:ext cx="2571480" cy="3505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295280" y="569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astellar"/>
              </a:rPr>
              <a:t>El</a:t>
            </a:r>
            <a:r>
              <a:rPr b="1" lang="en-US" sz="1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stellar"/>
              </a:rPr>
              <a:t>Invi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301666_w_s"/>
          <p:cNvPicPr/>
          <p:nvPr/>
        </p:nvPicPr>
        <p:blipFill>
          <a:blip r:embed="rId4"/>
          <a:stretch/>
        </p:blipFill>
        <p:spPr>
          <a:xfrm>
            <a:off x="6400800" y="3048120"/>
            <a:ext cx="2581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16002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108240" y="1371600"/>
            <a:ext cx="21495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Nina lleva un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su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  <a:ea typeface="Arial"/>
              </a:rPr>
              <a:t>é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ter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de algod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  <a:ea typeface="Arial"/>
              </a:rPr>
              <a:t>ó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n beige,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bufanda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gris, y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camisa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elegante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4191120" y="441972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Carmen lleva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chaqueta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roja,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vaqueros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, y una </a:t>
            </a:r>
            <a:r>
              <a:rPr b="1" lang="en-US" sz="1800" spc="-1" strike="noStrike">
                <a:solidFill>
                  <a:srgbClr val="333399"/>
                </a:solidFill>
                <a:latin typeface="Antique Olive Compact"/>
              </a:rPr>
              <a:t>bufanda 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de leopardo caz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Calligraphy"/>
              </a:rPr>
              <a:t>El Oto</a:t>
            </a:r>
            <a:r>
              <a:rPr b="0" lang="en-US" sz="4400" spc="-1" strike="noStrike">
                <a:solidFill>
                  <a:srgbClr val="ffffff"/>
                </a:solidFill>
                <a:latin typeface="Lucida Calligraphy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Lucida Calligraphy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302385_w_s"/>
          <p:cNvPicPr/>
          <p:nvPr/>
        </p:nvPicPr>
        <p:blipFill>
          <a:blip r:embed="rId2"/>
          <a:stretch/>
        </p:blipFill>
        <p:spPr>
          <a:xfrm>
            <a:off x="6640560" y="1752480"/>
            <a:ext cx="231300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301829_w_s"/>
          <p:cNvPicPr/>
          <p:nvPr/>
        </p:nvPicPr>
        <p:blipFill>
          <a:blip r:embed="rId3"/>
          <a:stretch/>
        </p:blipFill>
        <p:spPr>
          <a:xfrm>
            <a:off x="152280" y="1752480"/>
            <a:ext cx="2127240" cy="3276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152280" y="525780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Natalia lleva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vestido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casual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,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collar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, y una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pulsera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4419720" y="22716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Isabel lleva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vestido 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de</a:t>
            </a:r>
            <a:r>
              <a:rPr b="1" lang="en-US" sz="1800" spc="-1" strike="noStrike">
                <a:solidFill>
                  <a:srgbClr val="660033"/>
                </a:solidFill>
                <a:latin typeface="Lucida Calligraphy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flor, y un 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collar</a:t>
            </a:r>
            <a:r>
              <a:rPr b="1" lang="en-US" sz="1800" spc="-1" strike="noStrike">
                <a:solidFill>
                  <a:srgbClr val="ffffff"/>
                </a:solidFill>
                <a:latin typeface="Lucida Calligraphy"/>
              </a:rPr>
              <a:t> de color marr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7339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 CENA"/>
              </a:rPr>
              <a:t>La Primaver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pring-colors"/>
          <p:cNvPicPr/>
          <p:nvPr/>
        </p:nvPicPr>
        <p:blipFill>
          <a:blip r:embed="rId1"/>
          <a:stretch/>
        </p:blipFill>
        <p:spPr>
          <a:xfrm rot="908400">
            <a:off x="6019920" y="380520"/>
            <a:ext cx="2895480" cy="190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Wet Seal Dresses"/>
          <p:cNvPicPr/>
          <p:nvPr/>
        </p:nvPicPr>
        <p:blipFill>
          <a:blip r:embed="rId2"/>
          <a:srcRect l="0" t="0" r="0" b="8000"/>
          <a:stretch/>
        </p:blipFill>
        <p:spPr>
          <a:xfrm>
            <a:off x="152280" y="1219320"/>
            <a:ext cx="2562480" cy="396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hloe Printed Cardigan Sweater"/>
          <p:cNvPicPr/>
          <p:nvPr/>
        </p:nvPicPr>
        <p:blipFill>
          <a:blip r:embed="rId3"/>
          <a:stretch/>
        </p:blipFill>
        <p:spPr>
          <a:xfrm>
            <a:off x="6019920" y="2971800"/>
            <a:ext cx="258120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3048120" y="990720"/>
            <a:ext cx="20574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Anita lleva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fald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gris y beige,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camis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gris, un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suéter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negra y un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collar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875040" y="3494160"/>
            <a:ext cx="20415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Carmen lleva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suéter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leopardo cazador,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camis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 rosada, una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pulsera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, y </a:t>
            </a:r>
            <a:r>
              <a:rPr b="0" lang="en-US" sz="1800" spc="-1" strike="noStrike">
                <a:solidFill>
                  <a:srgbClr val="99cc00"/>
                </a:solidFill>
                <a:latin typeface="AR CENA"/>
              </a:rPr>
              <a:t>blue jeans</a:t>
            </a:r>
            <a:r>
              <a:rPr b="0" lang="en-US" sz="1800" spc="-1" strike="noStrike">
                <a:solidFill>
                  <a:srgbClr val="ff0066"/>
                </a:solidFill>
                <a:latin typeface="AR CE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301141_w_s"/>
          <p:cNvPicPr/>
          <p:nvPr/>
        </p:nvPicPr>
        <p:blipFill>
          <a:blip r:embed="rId2"/>
          <a:stretch/>
        </p:blipFill>
        <p:spPr>
          <a:xfrm>
            <a:off x="152280" y="1752480"/>
            <a:ext cx="2527560" cy="358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"/>
          <p:cNvPicPr/>
          <p:nvPr/>
        </p:nvPicPr>
        <p:blipFill>
          <a:blip r:embed="rId3"/>
          <a:stretch/>
        </p:blipFill>
        <p:spPr>
          <a:xfrm>
            <a:off x="6400800" y="1676520"/>
            <a:ext cx="2641680" cy="374328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2" descr=""/>
          <p:cNvPicPr/>
          <p:nvPr/>
        </p:nvPicPr>
        <p:blipFill>
          <a:blip r:embed="rId4"/>
          <a:stretch/>
        </p:blipFill>
        <p:spPr>
          <a:xfrm>
            <a:off x="2487600" y="231840"/>
            <a:ext cx="4035600" cy="1523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19160" y="5562720"/>
            <a:ext cx="4071960" cy="1191240"/>
          </a:xfrm>
          <a:prstGeom prst="rect">
            <a:avLst/>
          </a:prstGeom>
          <a:solidFill>
            <a:srgbClr val="d3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aria lleva una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zul y blanca,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ntalones corto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gafas de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ol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zul y blanca, y por de bajo un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traje de baño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az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105520" y="5562720"/>
            <a:ext cx="3886200" cy="916920"/>
          </a:xfrm>
          <a:prstGeom prst="rect">
            <a:avLst/>
          </a:prstGeom>
          <a:solidFill>
            <a:srgbClr val="d3e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armela lleva una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amisa </a:t>
            </a: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de flor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verde y violeta,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ntalone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corto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verde, y varios colores una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ulsera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652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1905120" y="1347840"/>
            <a:ext cx="1331640" cy="139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3009960" y="1366920"/>
            <a:ext cx="1249200" cy="13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4083120" y="1179360"/>
            <a:ext cx="133200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6"/>
          <a:stretch/>
        </p:blipFill>
        <p:spPr>
          <a:xfrm>
            <a:off x="5396040" y="1303200"/>
            <a:ext cx="1331640" cy="150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7"/>
          <a:stretch/>
        </p:blipFill>
        <p:spPr>
          <a:xfrm>
            <a:off x="6858000" y="1373040"/>
            <a:ext cx="1249200" cy="1424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8"/>
          <a:stretch/>
        </p:blipFill>
        <p:spPr>
          <a:xfrm>
            <a:off x="527040" y="2797200"/>
            <a:ext cx="138924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9"/>
          <a:stretch/>
        </p:blipFill>
        <p:spPr>
          <a:xfrm>
            <a:off x="1849320" y="3000240"/>
            <a:ext cx="1387440" cy="158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10"/>
          <a:stretch/>
        </p:blipFill>
        <p:spPr>
          <a:xfrm>
            <a:off x="3132000" y="3090960"/>
            <a:ext cx="13795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11"/>
          <a:stretch/>
        </p:blipFill>
        <p:spPr>
          <a:xfrm>
            <a:off x="4479840" y="2967120"/>
            <a:ext cx="1379520" cy="151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12"/>
          <a:stretch/>
        </p:blipFill>
        <p:spPr>
          <a:xfrm>
            <a:off x="5735520" y="2924280"/>
            <a:ext cx="1355760" cy="13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13"/>
          <a:stretch/>
        </p:blipFill>
        <p:spPr>
          <a:xfrm>
            <a:off x="7051680" y="2835360"/>
            <a:ext cx="1460520" cy="146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14"/>
          <a:stretch/>
        </p:blipFill>
        <p:spPr>
          <a:xfrm>
            <a:off x="666720" y="4494240"/>
            <a:ext cx="1398600" cy="155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15"/>
          <a:stretch/>
        </p:blipFill>
        <p:spPr>
          <a:xfrm>
            <a:off x="2055960" y="4548240"/>
            <a:ext cx="1120680" cy="114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16"/>
          <a:stretch/>
        </p:blipFill>
        <p:spPr>
          <a:xfrm>
            <a:off x="3432240" y="4702320"/>
            <a:ext cx="1141200" cy="113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17"/>
          <a:stretch/>
        </p:blipFill>
        <p:spPr>
          <a:xfrm>
            <a:off x="4767120" y="4340160"/>
            <a:ext cx="1148040" cy="1297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06520" y="2459160"/>
            <a:ext cx="13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gu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017800" y="2471760"/>
            <a:ext cx="11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buf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236760" y="2627280"/>
            <a:ext cx="10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rro de l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456080" y="2473200"/>
            <a:ext cx="93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art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695920" y="2797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986520" y="269892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i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797040" y="4257720"/>
            <a:ext cx="108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ore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2049480" y="451332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col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3333600" y="4206960"/>
            <a:ext cx="14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pend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4638600" y="4059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puls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5924520" y="3792600"/>
            <a:ext cx="10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an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7110360" y="397836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gaf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677880" y="5530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gafas de 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2017800" y="523404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cintur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3201840" y="574668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 calce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4750200" y="56358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med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 p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ó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!</a:t>
            </a:r>
            <a:r>
              <a:rPr b="0" lang="en-US" sz="4400" spc="-1" strike="noStrike">
                <a:solidFill>
                  <a:srgbClr val="00b0f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6018120" y="4237200"/>
            <a:ext cx="2009880" cy="2585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 rot="1410000">
            <a:off x="6501960" y="1457280"/>
            <a:ext cx="2111400" cy="286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 rot="19980000">
            <a:off x="858960" y="4509720"/>
            <a:ext cx="1725480" cy="217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6"/>
          <a:stretch/>
        </p:blipFill>
        <p:spPr>
          <a:xfrm>
            <a:off x="4191120" y="1600200"/>
            <a:ext cx="2076480" cy="285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7"/>
          <a:stretch/>
        </p:blipFill>
        <p:spPr>
          <a:xfrm>
            <a:off x="2514600" y="3276720"/>
            <a:ext cx="2119320" cy="286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8"/>
          <a:stretch/>
        </p:blipFill>
        <p:spPr>
          <a:xfrm rot="20401200">
            <a:off x="379080" y="1536480"/>
            <a:ext cx="2284560" cy="28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1:55Z</dcterms:created>
  <dc:creator>morgan and kaitlin(:</dc:creator>
  <dc:description/>
  <dc:language>en-US</dc:language>
  <cp:lastModifiedBy>morgan and kaitlin(:</cp:lastModifiedBy>
  <dcterms:modified xsi:type="dcterms:W3CDTF">2011-12-14T13:43:22Z</dcterms:modified>
  <cp:revision>24</cp:revision>
  <dc:subject/>
  <dc:title>Slide 1</dc:title>
</cp:coreProperties>
</file>